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D455-83A4-4A68-AF69-BC5B22F4A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403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BEC2-7916-4BD7-8386-4A9DC9D25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4034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E4D6-115B-4EDE-8AAD-71BEC483B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403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DCFF-0374-42C3-A4CD-473414E12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93468-D660-4C2B-B1C9-FC2AA6C91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403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E9087-CDF6-43B5-A715-B4E526D0E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403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0E0D6-4DDE-4C5C-AAB7-3025CD28A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403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EB108-0EC9-4F61-8506-09A09A818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40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38390-084A-4826-8E46-37790F125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49BBA-5A02-43AD-BAA3-DBDAC8E71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403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8BF41-4270-43EB-8A7F-32F4D389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403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0C9F-E939-4371-B54A-2D68D1EBF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403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0C7DE-98C1-4A24-8E6C-9DBC2A02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403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65969-EC73-44FB-9447-DEDE96AF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403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152EA-067F-4124-B861-775A430C4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403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29B32-8724-45CD-9986-B5F6A3835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403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C6C49-7ECE-492C-8302-D2934DC21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403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D6F0-8949-4C9A-BD36-441395192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4034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AF59-34B4-43E6-8300-66AB1E7E7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40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441C-4DED-415B-BA30-C63C4BDD6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5EA9-DA64-4777-884E-850AA7E50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403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EE3A-86FD-46E6-B954-1ACE636E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403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CD67-92AD-4308-B62B-7C0CAB2F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403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D989-C7EC-4973-B226-88A534C9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25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40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40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40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40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1c1101"/>
                </a:gs>
                <a:gs pos="100000">
                  <a:srgbClr val="3d25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3d2503"/>
                </a:gs>
                <a:gs pos="100000">
                  <a:srgbClr val="1c11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403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4034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B1C0B-4984-4358-9118-F731DE7F55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25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40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40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40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40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3d2503"/>
                </a:gs>
                <a:gs pos="100000">
                  <a:srgbClr val="1c110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1c1101"/>
                </a:gs>
                <a:gs pos="100000">
                  <a:srgbClr val="3d25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403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403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AF608-1099-4D89-9F43-4134992BAF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25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4034"/>
                </a:solidFill>
                <a:latin typeface="Times New Roman"/>
              </a:rPr>
              <a:t>The Chocolate Touch</a:t>
            </a:r>
            <a:endParaRPr b="0" lang="en-US" sz="4400" spc="-1" strike="noStrike">
              <a:solidFill>
                <a:srgbClr val="cc403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Patrick Skene Cat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25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4034"/>
                </a:solidFill>
                <a:latin typeface="Times New Roman"/>
              </a:rPr>
              <a:t>9. What did Dr. Cranium say was wrong with John?</a:t>
            </a:r>
            <a:endParaRPr b="0" lang="en-US" sz="4400" spc="-1" strike="noStrike">
              <a:solidFill>
                <a:srgbClr val="cc403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2640" y="1295280"/>
            <a:ext cx="446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5119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e had Chocolatitu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doctor wasn’t s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e had chicken pox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e was greed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791320" y="2514600"/>
            <a:ext cx="30477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25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4034"/>
                </a:solidFill>
                <a:latin typeface="Times New Roman"/>
              </a:rPr>
              <a:t>10. What lesson did John learn in this story?</a:t>
            </a:r>
            <a:endParaRPr b="0" lang="en-US" sz="4400" spc="-1" strike="noStrike">
              <a:solidFill>
                <a:srgbClr val="cc403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4952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50"/>
              </a:spcBef>
              <a:buClr>
                <a:srgbClr val="ff990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oo much chocolate will give you a stomachach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50"/>
              </a:spcBef>
              <a:buClr>
                <a:srgbClr val="ff990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o be nice to your siste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50"/>
              </a:spcBef>
              <a:buClr>
                <a:srgbClr val="ff990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Not to be greedy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50"/>
              </a:spcBef>
              <a:buClr>
                <a:srgbClr val="ff990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Not to pick up coins on the sidewal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095880" y="2057400"/>
            <a:ext cx="2656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25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4034"/>
                </a:solidFill>
                <a:latin typeface="Times New Roman"/>
              </a:rPr>
              <a:t>11. What did John find when he ran to the candy store?</a:t>
            </a:r>
            <a:endParaRPr b="0" lang="en-US" sz="4400" spc="-1" strike="noStrike">
              <a:solidFill>
                <a:srgbClr val="cc403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040" y="2133720"/>
            <a:ext cx="4800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n empty lot with a ‘For Sale’ sig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candy store was now a toy sto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re was a new clerk working at the sto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store didn’t sell chocolate anymo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095880" y="2819520"/>
            <a:ext cx="268452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8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000"/>
                            </p:stCondLst>
                            <p:childTnLst>
                              <p:par>
                                <p:cTn id="39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25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9900"/>
                </a:solidFill>
                <a:latin typeface="Arial"/>
              </a:rPr>
              <a:t>THE END!!!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581280" y="3733920"/>
            <a:ext cx="281952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5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25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4034"/>
                </a:solidFill>
                <a:latin typeface="Times New Roman"/>
              </a:rPr>
              <a:t>1. What did John like to eat?</a:t>
            </a:r>
            <a:endParaRPr b="0" lang="en-US" sz="4400" spc="-1" strike="noStrike">
              <a:solidFill>
                <a:srgbClr val="cc403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990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u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990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col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990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ccol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990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k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715000" y="2743200"/>
            <a:ext cx="281952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25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4034"/>
                </a:solidFill>
                <a:latin typeface="Times New Roman"/>
              </a:rPr>
              <a:t>2. What did John find as he was walking to Susan’s house one Sunday afternoon?</a:t>
            </a:r>
            <a:endParaRPr b="0" lang="en-US" sz="4400" spc="-1" strike="noStrike">
              <a:solidFill>
                <a:srgbClr val="cc403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2819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00"/>
              </a:spcBef>
              <a:buClr>
                <a:srgbClr val="ff990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col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990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doll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990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990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co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562720" y="3429000"/>
            <a:ext cx="194616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25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4034"/>
                </a:solidFill>
                <a:latin typeface="Times New Roman"/>
              </a:rPr>
              <a:t>3. What discovery did John make as he brushed his teeth?</a:t>
            </a:r>
            <a:endParaRPr b="0" lang="en-US" sz="4400" spc="-1" strike="noStrike">
              <a:solidFill>
                <a:srgbClr val="cc403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4008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511920" indent="-51192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was late for school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teeth were chocol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toothpaste  turned into chocol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sister took his toothbrus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334120" y="2666880"/>
            <a:ext cx="350496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25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818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4034"/>
                </a:solidFill>
                <a:latin typeface="Times New Roman"/>
              </a:rPr>
              <a:t>4. What did Susan want John to do with the coin to prove that it was real?</a:t>
            </a:r>
            <a:endParaRPr b="0" lang="en-US" sz="4400" spc="-1" strike="noStrike">
              <a:solidFill>
                <a:srgbClr val="cc403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2514600"/>
            <a:ext cx="4191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-52992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how the teach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29920" indent="-52992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uy something with i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29920" indent="-52992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ake it to the ban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29920" indent="-52992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te i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562720" y="3048120"/>
            <a:ext cx="32004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25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4034"/>
                </a:solidFill>
                <a:latin typeface="Times New Roman"/>
              </a:rPr>
              <a:t>5. Why was Miss Plimsole not happy with John?</a:t>
            </a:r>
            <a:endParaRPr b="0" lang="en-US" sz="4400" spc="-1" strike="noStrike">
              <a:solidFill>
                <a:srgbClr val="cc403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2880" y="1904760"/>
            <a:ext cx="4694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-5014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didn’t finish his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01480" indent="-5014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was late for cla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01480" indent="-5014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was giving out chocolate to other stud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01480" indent="-5014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forgot his homewor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019920" y="266688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6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25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421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4034"/>
                </a:solidFill>
                <a:latin typeface="Times New Roman"/>
              </a:rPr>
              <a:t>6. How did Susan react when John told her about his pencil turning into chocolate?</a:t>
            </a:r>
            <a:endParaRPr b="0" lang="en-US" sz="4400" spc="-1" strike="noStrike">
              <a:solidFill>
                <a:srgbClr val="cc403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990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 thought he was telling the tru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990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 thought it was c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990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 didn’t believe 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990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 wanted him to turn something into chocolate f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943600" y="2971800"/>
            <a:ext cx="2212920" cy="26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3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25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8184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4034"/>
                </a:solidFill>
                <a:latin typeface="Times New Roman"/>
              </a:rPr>
              <a:t>7. How did the thought of chocolate pie make John feel today?</a:t>
            </a:r>
            <a:endParaRPr b="0" lang="en-US" sz="4400" spc="-1" strike="noStrike">
              <a:solidFill>
                <a:srgbClr val="cc403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2880" y="2361960"/>
            <a:ext cx="48466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51"/>
              </a:spcBef>
              <a:buClr>
                <a:srgbClr val="ff990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Very hungry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51"/>
              </a:spcBef>
              <a:buClr>
                <a:srgbClr val="ff990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Sick to his stomach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51"/>
              </a:spcBef>
              <a:buClr>
                <a:srgbClr val="ff990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Excited!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51"/>
              </a:spcBef>
              <a:buClr>
                <a:srgbClr val="ff990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ngry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943600" y="2362320"/>
            <a:ext cx="21607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25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4034"/>
                </a:solidFill>
                <a:latin typeface="Times New Roman"/>
              </a:rPr>
              <a:t>8. What happened after John began to play his trumpet?</a:t>
            </a:r>
            <a:endParaRPr b="0" lang="en-US" sz="4400" spc="-1" strike="noStrike">
              <a:solidFill>
                <a:srgbClr val="cc403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4190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990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ran off the stage and toward h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990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ran to the bathro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990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shared his chocolate trumpet with the k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990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ate the chocolate himse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57800" y="2590920"/>
            <a:ext cx="3581280" cy="24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7T16:57:24Z</dcterms:created>
  <dc:creator>WSSD Teacher iBook</dc:creator>
  <dc:description/>
  <dc:language>en-US</dc:language>
  <cp:lastModifiedBy>WSSD Teacher iBook</cp:lastModifiedBy>
  <dcterms:modified xsi:type="dcterms:W3CDTF">2010-11-09T23:15:25Z</dcterms:modified>
  <cp:revision>13</cp:revision>
  <dc:subject/>
  <dc:title>The Chocolate Touch</dc:title>
</cp:coreProperties>
</file>